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824-3F36-497C-BF4D-DA1EEA3E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C677-1A36-4F10-B98C-6037666D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9E34-AC91-4F47-B03C-760587CC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EB47-09F0-4F75-8326-FAB74D29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0FC-62AF-40EF-B94E-56C8E1E2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0CB9-3CB6-4AFA-8E5F-CA72BAB8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3AD3-82F2-4D6B-A387-1575B0CA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8012-539A-4C6C-A3ED-7221766B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DEE9-DE1B-432F-BC68-65B8E253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523-6F25-49E6-AC0E-F6ED8A59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B07D-7212-437C-9FB0-E8B4CDB8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A17-4748-403C-8E4E-2728E2B7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4619-13FA-404A-933F-26EFAB232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lla Camp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68360" y="1341360"/>
            <a:ext cx="463896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naging The Pollution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The Port Hacking Rive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CHEMICALS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04:48:18Z</dcterms:created>
  <dc:creator>ella.campbell</dc:creator>
  <dc:description/>
  <dc:language>en-US</dc:language>
  <cp:lastModifiedBy>ella.campbell</cp:lastModifiedBy>
  <dcterms:modified xsi:type="dcterms:W3CDTF">2009-05-08T04:48:47Z</dcterms:modified>
  <cp:revision>1</cp:revision>
  <dc:subject/>
  <dc:title>Slide 1</dc:title>
</cp:coreProperties>
</file>